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8.jpeg" ContentType="image/jpeg"/>
  <Override PartName="/ppt/media/image53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8.jpeg" ContentType="image/jpeg"/>
  <Override PartName="/ppt/media/image46.png" ContentType="image/png"/>
  <Override PartName="/ppt/media/image10.png" ContentType="image/png"/>
  <Override PartName="/ppt/media/image47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9.png" ContentType="image/png"/>
  <Override PartName="/ppt/media/image24.jpeg" ContentType="image/jpeg"/>
  <Override PartName="/ppt/media/image4.wmf" ContentType="image/x-wmf"/>
  <Override PartName="/ppt/media/image59.png" ContentType="image/png"/>
  <Override PartName="/ppt/media/image49.jpeg" ContentType="image/jpeg"/>
  <Override PartName="/ppt/media/image18.jpeg" ContentType="image/jpeg"/>
  <Override PartName="/ppt/media/image21.jpeg" ContentType="image/jpeg"/>
  <Override PartName="/ppt/media/image65.png" ContentType="image/png"/>
  <Override PartName="/ppt/media/image32.png" ContentType="image/png"/>
  <Override PartName="/ppt/media/image25.jpeg" ContentType="image/jpeg"/>
  <Override PartName="/ppt/media/image70.png" ContentType="image/png"/>
  <Override PartName="/ppt/media/image16.png" ContentType="image/png"/>
  <Override PartName="/ppt/media/image7.jpeg" ContentType="image/jpeg"/>
  <Override PartName="/ppt/media/image68.png" ContentType="image/png"/>
  <Override PartName="/ppt/media/image14.png" ContentType="image/png"/>
  <Override PartName="/ppt/media/image69.png" ContentType="image/png"/>
  <Override PartName="/ppt/media/image67.jpeg" ContentType="image/jpeg"/>
  <Override PartName="/ppt/media/image66.png" ContentType="image/png"/>
  <Override PartName="/ppt/media/image26.jpeg" ContentType="image/jpeg"/>
  <Override PartName="/ppt/media/image42.png" ContentType="image/png"/>
  <Override PartName="/ppt/media/image63.png" ContentType="image/png"/>
  <Override PartName="/ppt/media/image62.png" ContentType="image/png"/>
  <Override PartName="/ppt/media/image28.jpeg" ContentType="image/jpeg"/>
  <Override PartName="/ppt/media/image64.png" ContentType="image/png"/>
  <Override PartName="/ppt/media/image27.png" ContentType="image/png"/>
  <Override PartName="/ppt/media/image61.png" ContentType="image/png"/>
  <Override PartName="/ppt/media/image60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12.png" ContentType="image/png"/>
  <Override PartName="/ppt/media/image57.png" ContentType="image/png"/>
  <Override PartName="/ppt/media/image31.png" ContentType="image/png"/>
  <Override PartName="/ppt/media/image2.jpeg" ContentType="image/jpeg"/>
  <Override PartName="/ppt/media/image17.jpeg" ContentType="image/jpeg"/>
  <Override PartName="/ppt/media/image15.png" ContentType="image/png"/>
  <Override PartName="/ppt/media/image3.png" ContentType="image/png"/>
  <Override PartName="/ppt/media/image33.png" ContentType="image/png"/>
  <Override PartName="/ppt/media/image6.png" ContentType="image/png"/>
  <Override PartName="/ppt/media/image36.png" ContentType="image/png"/>
  <Override PartName="/ppt/media/image19.jpeg" ContentType="image/jpeg"/>
  <Override PartName="/ppt/media/image11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30.jpeg" ContentType="image/jpeg"/>
  <Override PartName="/ppt/media/image34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1B3-81BE-46C6-AEED-2F82F8F1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972-0811-49F9-BF74-39511856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38E-DED0-44A9-8915-16E51EC6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A7DB-046E-4251-B791-E7C32FA6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88742-4297-4FE1-9250-F527A9CF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7A1C4-C90E-4602-AD01-A9B521B6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F3587-F733-45CE-AE5B-6C4D8735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FB605-8D2E-473E-8C0B-2A269AB0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21EAC-DC1E-4801-A706-6FFE65ED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57C3E-C3C4-4163-AB6E-FB78D73C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ACC95-4E2D-4319-9ED7-BF833025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0E21-5C2F-462D-AF39-A32CF76F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44CD8-7090-4D0A-BDA0-FFA38BB0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2DBE0-3798-4553-BFD6-8D205F48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79D09-3A41-438D-B353-96B16A2E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ED56F-F2F4-419A-B79C-869F505F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4D682-141D-4946-90ED-A82E4869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886-B082-46B3-867C-45959AED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AA9E-F758-4E80-A55D-FD0E96A2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16DD-FC99-45F7-A244-847E8024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86C-FB0D-4603-85B1-A78143DB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214-72C5-4F35-B5E7-C5872167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6ED-174D-4367-8BCC-0BC206F2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29D8-1296-454D-9501-8CD36B8C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A437-9632-4986-B51C-A8E8D5853F96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CD5A-4175-4C0B-A7B4-BDE4E1FCC90A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A1AE-9D07-4B03-B138-DBE0D6AC6D4D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3D16-1D2B-45EE-B119-13FE3BB17C0E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mkcamel.w.interia.pl/images/cirrus%20ci.jpg" TargetMode="External"/><Relationship Id="rId3" Type="http://schemas.openxmlformats.org/officeDocument/2006/relationships/hyperlink" Target="http://mkcamel.w.interia.pl/images/cirrocumulus%20cc.jpg" TargetMode="External"/><Relationship Id="rId4" Type="http://schemas.openxmlformats.org/officeDocument/2006/relationships/hyperlink" Target="http://mkcamel.w.interia.pl/images/cirrostratus%20cs.jpg" TargetMode="External"/><Relationship Id="rId5" Type="http://schemas.openxmlformats.org/officeDocument/2006/relationships/hyperlink" Target="http://meteo.ids.pl/~chmury/wolken/wo39.htm" TargetMode="External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mkcamel.w.interia.pl/images/altocumulus%20ac.jpg" TargetMode="External"/><Relationship Id="rId3" Type="http://schemas.openxmlformats.org/officeDocument/2006/relationships/hyperlink" Target="http://mkcamel.w.interia.pl/images/altostratus%20as.jpg" TargetMode="External"/><Relationship Id="rId4" Type="http://schemas.openxmlformats.org/officeDocument/2006/relationships/hyperlink" Target="http://meteo.ids.pl/~chmury/wolken/wo12326.htm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hyperlink" Target="http://mkcamel.w.interia.pl/images/nimbostratus%20ns.jpg" TargetMode="External"/><Relationship Id="rId4" Type="http://schemas.openxmlformats.org/officeDocument/2006/relationships/hyperlink" Target="http://mkcamel.w.interia.pl/images/stratocumulus%20sc.jpg" TargetMode="External"/><Relationship Id="rId5" Type="http://schemas.openxmlformats.org/officeDocument/2006/relationships/hyperlink" Target="http://mkcamel.w.interia.pl/images/stratus%20st.jpg" TargetMode="Externa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hyperlink" Target="http://mkcamel.w.interia.pl/images/cumulus%20cu.jpg" TargetMode="External"/><Relationship Id="rId4" Type="http://schemas.openxmlformats.org/officeDocument/2006/relationships/hyperlink" Target="http://mkcamel.w.interia.pl/images/cumulonimbus%20cb.jpg" TargetMode="External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76360" y="90792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GLOBE</a:t>
            </a:r>
            <a:br>
              <a:rPr sz="3600"/>
            </a:b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Badania Atmosferycz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335772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rzysztof Markowi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niwersytet Warszawsk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mark@igf.fuw.edu.p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94606-0614-4FFC-9433-94FBB79E2A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554120"/>
            <a:ext cx="9144000" cy="530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8C40B-FF5C-4475-A25A-65DA837E87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2106720"/>
            <a:ext cx="6335640" cy="4751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0"/>
            <a:ext cx="91440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Arial"/>
              </a:rPr>
              <a:t>Usytuowanie klatki meteorologicznej</a:t>
            </a:r>
            <a:r>
              <a:rPr b="0" lang="pl-PL" sz="2000" spc="-1" strike="noStrike">
                <a:solidFill>
                  <a:srgbClr val="e3e3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3e3ff"/>
                </a:solidFill>
                <a:latin typeface="Arial"/>
              </a:rPr>
              <a:t>drzwiczki do klatki powinny otwierać się w kierunku północny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3e3ff"/>
                </a:solidFill>
                <a:latin typeface="Arial"/>
              </a:rPr>
              <a:t>Termometry w klatce powinny znajdować się na wysokości oczu uczniów (1.5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CDD7A-450B-457C-A3C1-9EBE037031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7067520" cy="3337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19280" y="26028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Arial"/>
              </a:rPr>
              <a:t>Klatka meteorologiczna i deszczomier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55640" y="4365720"/>
            <a:ext cx="7705800" cy="225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54129-CA91-43C9-8DD0-FE34E45A09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Arial"/>
              </a:rPr>
              <a:t>Klatka meteorologiczn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636FD-35C1-43A2-9B27-B4A6332B63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EF8A4-BC7C-4781-8E3F-F1D370502A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E964E-A7A5-47BC-9C20-5D3376F80A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Arial"/>
              </a:rPr>
              <a:t>Pomiary temperatury powietrz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546440" cy="4495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43280" y="1052640"/>
            <a:ext cx="4500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9999"/>
                </a:solidFill>
                <a:latin typeface="Arial"/>
              </a:rPr>
              <a:t>Co mierzy termomet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3e3ff"/>
                </a:solidFill>
                <a:latin typeface="Arial"/>
              </a:rPr>
              <a:t>Temperaturę własną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3e3ff"/>
                </a:solidFill>
                <a:latin typeface="Arial"/>
              </a:rPr>
              <a:t>Temperatura aktual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3e3ff"/>
                </a:solidFill>
                <a:latin typeface="Arial"/>
              </a:rPr>
              <a:t>Temperatura maksymal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3e3ff"/>
                </a:solidFill>
                <a:latin typeface="Arial"/>
              </a:rPr>
              <a:t>Temperatura minimal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66ff33"/>
                </a:solidFill>
                <a:latin typeface="Arial"/>
              </a:rPr>
              <a:t>Ustawienie termometru do pomiar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66ff33"/>
                </a:solidFill>
                <a:latin typeface="Arial"/>
              </a:rPr>
              <a:t>przy pomocy magnesu (codziennie podczas pomiarów w południ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1F24B-3027-4338-8978-284A41EA11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Arial"/>
              </a:rPr>
              <a:t>Kalibracja termometru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4658040" cy="324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40683-7583-498A-8352-0C8BABE4AB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Arial"/>
              </a:rPr>
              <a:t>Termometr cyfrowy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71640" y="1268280"/>
            <a:ext cx="3970440" cy="449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815B9-5457-4FFA-B129-358CD20457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08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4F296-78B6-4F6B-8994-87E38D96AE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912000" cy="691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56000" y="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Arial"/>
              </a:rPr>
              <a:t>Atmosf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E4905-61CA-4D40-BA7C-8C226DFBEC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Arial"/>
              </a:rPr>
              <a:t>Chmury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01556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3e3ff"/>
                </a:solidFill>
                <a:latin typeface="Arial"/>
              </a:rPr>
              <a:t>Chmury są to zawiesiny mikroskopijnych cząstek cieczy (głównie wody) lub ciał stałych (lodu) w atmosferze. Powstają w wyniku kondensacji pary wodnej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3e3ff"/>
                </a:solidFill>
                <a:latin typeface="Arial"/>
              </a:rPr>
              <a:t>Są one wizualnym efektem procesów zachodzących w atmosfer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3e3ff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Arial"/>
              </a:rPr>
              <a:t>Podział mikrofizyczny chm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3e3ff"/>
                </a:solidFill>
                <a:latin typeface="Arial"/>
              </a:rPr>
              <a:t>Chmury lodo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3e3ff"/>
                </a:solidFill>
                <a:latin typeface="Arial"/>
              </a:rPr>
              <a:t>Chmury wod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3e3ff"/>
                </a:solidFill>
                <a:latin typeface="Arial"/>
              </a:rPr>
              <a:t>Chmury miesz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7A679-C6A4-4F7F-800A-EAD6FA365C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938760" cy="2503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174560" y="1125360"/>
            <a:ext cx="3750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Cirru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(Ci) - pierzaste 7km - 13km</a:t>
            </a:r>
            <a:r>
              <a:rPr b="0" lang="pl-PL" sz="1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3240" y="260280"/>
            <a:ext cx="48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hmury wysokie  6000m - 13000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" y="5300640"/>
            <a:ext cx="34826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Cirrocumulu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(Cc)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ierzasto-kłębiaste 6km - 13km</a:t>
            </a:r>
            <a:r>
              <a:rPr b="0" lang="pl-PL" sz="1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52320" y="5229360"/>
            <a:ext cx="35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Cirrostratu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(Cs)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ierzasto-warstwowe 7km - 13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2987640" cy="3213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179280" y="2781360"/>
            <a:ext cx="3996000" cy="253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94168-C357-4271-9025-9DC85D7597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76160" y="2766960"/>
            <a:ext cx="3400560" cy="2162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195640" y="47628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hmury średnie  2500m - 6000m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0520" y="515772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Altocumulu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(Ac)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średnie kłębiaste 2,5km - 6km</a:t>
            </a:r>
            <a:r>
              <a:rPr b="0" lang="pl-PL" sz="1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51960" y="5229360"/>
            <a:ext cx="34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Altostratu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(As)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średnie warstwowe 2,5km - 5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03640" y="2708280"/>
            <a:ext cx="3429000" cy="222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D7C40-1B3B-434C-917C-7C05C09B7B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4032360" cy="2563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3400200" cy="2162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788000" y="544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Nimbostratu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(Ns) - deszczowo-warstwowa 100m - 8km</a:t>
            </a:r>
            <a:r>
              <a:rPr b="0" lang="pl-PL" sz="1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40440" y="187200"/>
            <a:ext cx="39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hmury niskie  0m - 2500m</a:t>
            </a:r>
            <a:r>
              <a:rPr b="0" lang="pl-PL" sz="2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40" y="5445000"/>
            <a:ext cx="42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Stratocumulu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(Sc)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arstwowo-kłębiaste niskie 200m - 3km</a:t>
            </a:r>
            <a:r>
              <a:rPr b="0" lang="pl-PL" sz="1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93120" y="1700280"/>
            <a:ext cx="45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Stratu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(St) - warstwowe niskie 50m - 2km</a:t>
            </a:r>
            <a:r>
              <a:rPr b="0" lang="pl-PL" sz="1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48120" cy="306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99067-9A64-47CE-8A6A-04905B5D0C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4116240" cy="2617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4175280" cy="2654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195640" y="404640"/>
            <a:ext cx="45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hmury o budowie pionowej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pl-PL" sz="1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1400" y="501336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Cumulu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(Cu) - kłębiaste 600m - 12km</a:t>
            </a:r>
            <a:r>
              <a:rPr b="0" lang="pl-PL" sz="1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07600" y="5013360"/>
            <a:ext cx="38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Cumulonimbu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(Cb)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łębiasto-deszczowa 300m - 6,5km</a:t>
            </a:r>
            <a:r>
              <a:rPr b="0" lang="pl-PL" sz="1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3F479-9782-43FA-9234-64C27E39A5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F4AFE-F100-4D96-92FF-06B5175884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11280" y="260280"/>
            <a:ext cx="82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Arial"/>
              </a:rPr>
              <a:t>Smugi kondensacyjne</a:t>
            </a:r>
            <a:r>
              <a:rPr b="0" lang="pl-PL" sz="1800" spc="-1" strike="noStrike">
                <a:solidFill>
                  <a:srgbClr val="e3e3ff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e3e3ff"/>
                </a:solidFill>
                <a:latin typeface="Arial"/>
              </a:rPr>
              <a:t>niewielkie sztuczne powstające chmury kłębiasto-pierzaste, tworzące się za samolotem lecącym na wysokości 7-12 km, wskutek kondensacji pary wodnej zawartej spalinach samolotowych</a:t>
            </a:r>
            <a:r>
              <a:rPr b="0" lang="pl-PL" sz="1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Short Lived Contrails"/>
          <p:cNvPicPr/>
          <p:nvPr/>
        </p:nvPicPr>
        <p:blipFill>
          <a:blip r:embed="rId1"/>
          <a:stretch/>
        </p:blipFill>
        <p:spPr>
          <a:xfrm>
            <a:off x="539640" y="1557360"/>
            <a:ext cx="2808360" cy="1179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Persistent Non-Spreading Contrails"/>
          <p:cNvPicPr/>
          <p:nvPr/>
        </p:nvPicPr>
        <p:blipFill>
          <a:blip r:embed="rId2"/>
          <a:stretch/>
        </p:blipFill>
        <p:spPr>
          <a:xfrm>
            <a:off x="539640" y="2852640"/>
            <a:ext cx="2808360" cy="1201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Persistent Spreading Contrails"/>
          <p:cNvPicPr/>
          <p:nvPr/>
        </p:nvPicPr>
        <p:blipFill>
          <a:blip r:embed="rId3"/>
          <a:stretch/>
        </p:blipFill>
        <p:spPr>
          <a:xfrm>
            <a:off x="539640" y="4221000"/>
            <a:ext cx="2808360" cy="1179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284720" y="2781360"/>
            <a:ext cx="4105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Arial"/>
              </a:rPr>
              <a:t>Dlaczego badamy smugi kondensacyjn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3e3ff"/>
                </a:solidFill>
                <a:latin typeface="Arial"/>
              </a:rPr>
              <a:t>gdyż ich obecność prowadzi do ocieplania klimatu Ziem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97D8A-3ED5-4F2C-A6D0-E5DA6F7FCC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Arial"/>
              </a:rPr>
              <a:t>Obserwacje stopnia zachmurzenia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krycie nieboskłonu chmuram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Gra symulacyjna stopnia zachmurzenia przy użyciu niebieskiej i białej karki papier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FF613-979B-4DC4-84CC-13D7F48C1B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487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835280" y="83664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203640" y="836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4572000" y="836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6084720" y="83664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7667640" y="836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484360" y="18900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3e3ff"/>
                </a:solidFill>
                <a:latin typeface="Arial"/>
              </a:rPr>
              <a:t>Zachmurz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198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3e3ff"/>
                </a:solidFill>
                <a:latin typeface="Arial"/>
              </a:rPr>
              <a:t>0%               &lt;10%            10-25%        25-50%           50-90%              &gt;9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9280" y="2924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3e3ff"/>
                </a:solidFill>
                <a:latin typeface="Arial"/>
              </a:rPr>
              <a:t>Niebo niewido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3203640" y="2852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8"/>
          <a:stretch/>
        </p:blipFill>
        <p:spPr>
          <a:xfrm>
            <a:off x="5940360" y="2852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9"/>
          <a:stretch/>
        </p:blipFill>
        <p:spPr>
          <a:xfrm>
            <a:off x="4500720" y="285264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0"/>
          <a:stretch/>
        </p:blipFill>
        <p:spPr>
          <a:xfrm>
            <a:off x="7380360" y="2852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250920" y="4508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2"/>
          <a:stretch/>
        </p:blipFill>
        <p:spPr>
          <a:xfrm>
            <a:off x="1547640" y="450864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3"/>
          <a:stretch/>
        </p:blipFill>
        <p:spPr>
          <a:xfrm>
            <a:off x="2987640" y="4508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4"/>
          <a:stretch/>
        </p:blipFill>
        <p:spPr>
          <a:xfrm>
            <a:off x="4356000" y="4508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5"/>
          <a:stretch/>
        </p:blipFill>
        <p:spPr>
          <a:xfrm>
            <a:off x="5724360" y="450864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6"/>
          <a:stretch/>
        </p:blipFill>
        <p:spPr>
          <a:xfrm>
            <a:off x="7164360" y="4508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916360" y="393372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0" lang="pl-PL" sz="2000" spc="-1" strike="noStrike">
                <a:solidFill>
                  <a:srgbClr val="e3e3ff"/>
                </a:solidFill>
                <a:latin typeface="Arial"/>
              </a:rPr>
              <a:t>Zamieć           śnieg           deszcz          mgł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566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3e3ff"/>
                </a:solidFill>
                <a:latin typeface="Arial"/>
              </a:rPr>
              <a:t>Sól morska   pył wulkaniczny   pożary              kurz            piasek             aeroz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B888A-0FFC-4430-B18E-8AB315C662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5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FD8A9-2BAD-419B-B0A7-E441C6FA06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Arial"/>
              </a:rPr>
              <a:t>Dlaczego badamy atmosferę w GLOBIE?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ainteresowanie pogodą jej zmiennością oraz klima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trzeba zrozumienia praw fizycznych rządzących procesami zachodzącymi w atmosfer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agęszczenie sieci obserwacyjne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alidacja danych satelitarn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5811E-B612-42B1-8A7D-188C0C910A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Arial"/>
              </a:rPr>
              <a:t>Kamera nieba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859280" cy="36943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876920" y="33577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64470-0F85-4D29-A600-F1C66C76CA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6275520" cy="3429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68360" y="0"/>
            <a:ext cx="41749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Arial"/>
              </a:rPr>
              <a:t>Opa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ysokość opa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H opa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ffff00"/>
                </a:solidFill>
                <a:latin typeface="Arial"/>
              </a:rPr>
              <a:t>Pokrywa śnież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ałkowita pokrywa śnież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Śnieg now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Ekwiwalenty wodne śnieg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206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5DAF0-8E7A-4101-9EDB-C468CBC25A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Arial"/>
              </a:rPr>
              <a:t>PH opadu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omiary PH-metrem lub przy użyciu papierku lakmusowego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3133800" cy="28573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924360" y="3213000"/>
            <a:ext cx="4716360" cy="20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93FF6-6764-4F76-BA02-E6DA4F355C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A523D-651C-495D-B31A-1FF402B6E5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Arial"/>
              </a:rPr>
              <a:t>Wilgotność powietrz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Arial"/>
              </a:rPr>
              <a:t>Wilgotność względna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– określa stopień nasycenia powietrza para wodna. Mówimy ze powietrze jest nasycone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ą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wodną gdy wilgotność względna wynosi 100%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Arial"/>
              </a:rPr>
              <a:t>Wilgotność bezwzględna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– określa zawartość pary wodnej w powietrz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Arial"/>
              </a:rPr>
              <a:t>Temperatura punktu rosy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– temperatura przy której powietrze nasyca się para wodna a ta zaczyna kondensować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9FBDA-E878-42C1-B866-EEBCF9ECDB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Arial"/>
              </a:rPr>
              <a:t>Pomiary wilgotność względnej powietrza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100160" y="2400480"/>
            <a:ext cx="2752560" cy="2895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067360" y="2252520"/>
            <a:ext cx="3200400" cy="31910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788000" y="1628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6ff33"/>
                </a:solidFill>
                <a:latin typeface="Arial"/>
              </a:rPr>
              <a:t>Psychrometr</a:t>
            </a:r>
            <a:r>
              <a:rPr b="0" lang="pl-PL" sz="1800" spc="-1" strike="noStrike">
                <a:solidFill>
                  <a:srgbClr val="e3e3ff"/>
                </a:solidFill>
                <a:latin typeface="Arial"/>
              </a:rPr>
              <a:t>- zbudowany z termometru suchego oraz zwilżone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32000" y="177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6ff33"/>
                </a:solidFill>
                <a:latin typeface="Arial"/>
              </a:rPr>
              <a:t>Higrometr cyfrow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BCE63-5A97-4193-8936-0F485AB5E7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Arial"/>
              </a:rPr>
              <a:t>Wyznaczenie wilgotności na podstawie pomiarów psychrometrem 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rzystanie z specjalnej skali na psychrometr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ablice psychrometrycz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rzystanie z programu komputerow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9C807-1812-469A-867C-3BB119BCE2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91280" cy="879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A6F20-A30B-4785-BF52-F1FD8ADDC6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6488C-4EEE-4CF9-8F8A-2857E5D65F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748720" cy="289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5B887-7021-44C2-8884-76502DC44E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Arial"/>
              </a:rPr>
              <a:t>Zmiany klimatu Ziemi </a:t>
            </a:r>
            <a:br>
              <a:rPr sz="2800"/>
            </a:br>
            <a:r>
              <a:rPr b="0" lang="pl-PL" sz="2800" spc="-1" strike="noStrike">
                <a:solidFill>
                  <a:srgbClr val="ffff00"/>
                </a:solidFill>
                <a:latin typeface="Arial"/>
              </a:rPr>
              <a:t>Raport Międzyrządowego Panelu do spraw </a:t>
            </a:r>
            <a:br>
              <a:rPr sz="2800"/>
            </a:br>
            <a:r>
              <a:rPr b="0" lang="pl-PL" sz="2800" spc="-1" strike="noStrike">
                <a:solidFill>
                  <a:srgbClr val="ffff00"/>
                </a:solidFill>
                <a:latin typeface="Arial"/>
              </a:rPr>
              <a:t>zmian Klimatu, maj 2007</a:t>
            </a:r>
            <a:r>
              <a:rPr b="0" lang="pl-PL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4427280" cy="3611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88000" y="2276640"/>
            <a:ext cx="43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3e3ff"/>
                </a:solidFill>
                <a:latin typeface="Arial"/>
              </a:rPr>
              <a:t>Stwierdzono, z prawdopodobieństwem 90% że obserwowane zmiany klimatu są skutkiem działalności człowieka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F043F-3E29-43CD-B4B2-C5A4C77038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Arial"/>
              </a:rPr>
              <a:t>Ciśnienie powietrza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243400" y="1989000"/>
            <a:ext cx="3900600" cy="37720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981000"/>
            <a:ext cx="50767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3e3ff"/>
                </a:solidFill>
                <a:latin typeface="Arial"/>
              </a:rPr>
              <a:t>Zdefiniowane poprzez sile nacisku jednostkowego słupa powietrza. W układzie Si jednostka ciśnienia jest Pa. W meteorologii najczęściej używa się jednostek: hPa, mbr, mmH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3e3ff"/>
                </a:solidFill>
                <a:latin typeface="Arial"/>
              </a:rPr>
              <a:t>1mmHG=3/4 h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Arial"/>
              </a:rPr>
              <a:t>Ciśnienie powietrza</a:t>
            </a:r>
            <a:r>
              <a:rPr b="0" lang="pl-PL" sz="2000" spc="-1" strike="noStrike">
                <a:solidFill>
                  <a:srgbClr val="e3e3ff"/>
                </a:solidFill>
                <a:latin typeface="Arial"/>
              </a:rPr>
              <a:t> jest dobrym wskaźnikiem zmian zachodzących w atmosfer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1A5E6-7ED6-4D9E-99D8-273EB0BE38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C21CC-6A10-4EC6-9572-446FCB0605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Arial"/>
              </a:rPr>
              <a:t>Przykładowy 10-cio dniowy przebieg ciśnienia</a:t>
            </a:r>
            <a:r>
              <a:rPr b="0" lang="pl-PL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ED322-88BE-4A24-AF23-2C790393A6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92480" y="2599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Arial"/>
              </a:rPr>
              <a:t>Pomiary ciśnienia przy użyciu aneroidu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ff9999"/>
                </a:solidFill>
                <a:latin typeface="Arial"/>
              </a:rPr>
              <a:t>przyrząd instalujemy w klasie!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36464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067280" y="1628640"/>
            <a:ext cx="507672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e3e3ff"/>
                </a:solidFill>
                <a:latin typeface="Arial"/>
              </a:rPr>
              <a:t>Kalibracja baromet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66ff33"/>
                </a:solidFill>
                <a:latin typeface="Arial"/>
              </a:rPr>
              <a:t>Ciśnienie lokalne-</a:t>
            </a:r>
            <a:r>
              <a:rPr b="0" lang="pl-PL" sz="2000" spc="-1" strike="noStrike">
                <a:solidFill>
                  <a:srgbClr val="e3e3ff"/>
                </a:solidFill>
                <a:latin typeface="Arial"/>
              </a:rPr>
              <a:t> prawdziwe ciśnienie mierzone przez barometr (barometr rtęciow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66ff33"/>
                </a:solidFill>
                <a:latin typeface="Arial"/>
              </a:rPr>
              <a:t>Ciśnienie zredukowane do poziomu morza-</a:t>
            </a:r>
            <a:r>
              <a:rPr b="0" lang="pl-PL" sz="2000" spc="-1" strike="noStrike">
                <a:solidFill>
                  <a:srgbClr val="e3e3ff"/>
                </a:solidFill>
                <a:latin typeface="Arial"/>
              </a:rPr>
              <a:t> ciśnienie jakie panowałoby na danej stacji gdyby znajdowała się ona na poziomie morz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4797360"/>
            <a:ext cx="864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Arial"/>
              </a:rPr>
              <a:t>ciśnienie lokalne= ciśnienie zredukowane- (wysokość /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Arial"/>
              </a:rPr>
              <a:t>C=0.0298*(273+temperatur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26EB9-5180-41A3-A354-9FE9FD2BF5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80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8D32F-C655-40B6-914A-0803D17CC3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3e3ff"/>
                </a:solidFill>
                <a:latin typeface="Arial"/>
              </a:rPr>
              <a:t>Programy komputerowe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0" y="666720"/>
          <a:ext cx="9144000" cy="6191280"/>
        </p:xfrm>
        <a:graphic>
          <a:graphicData uri="http://schemas.openxmlformats.org/drawingml/2006/table">
            <a:tbl>
              <a:tblPr/>
              <a:tblGrid>
                <a:gridCol w="1476360"/>
                <a:gridCol w="1727280"/>
                <a:gridCol w="59403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63416"/>
                          </a:solidFill>
                          <a:latin typeface="Times New Roman"/>
                        </a:rPr>
                        <a:t>protokó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63416"/>
                          </a:solidFill>
                          <a:latin typeface="Times New Roman"/>
                        </a:rPr>
                        <a:t>nazwa program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63416"/>
                          </a:solidFill>
                          <a:latin typeface="Times New Roman"/>
                        </a:rPr>
                        <a:t>opis programu i dodatkowe plik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7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i</a:t>
                      </a: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ś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ien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lp.ex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rogram do obliczania ci</a:t>
                      </a:r>
                      <a:r>
                        <a:rPr b="1" lang="pl-PL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ś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ienia lokalnego na podstawie ci</a:t>
                      </a:r>
                      <a:r>
                        <a:rPr b="1" lang="pl-PL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ś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ienia zredukowanego do poziomu morz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ilgotno</a:t>
                      </a: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ś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ilg.ex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rogram od obliczania wilgotno</a:t>
                      </a:r>
                      <a:r>
                        <a:rPr b="1" lang="pl-PL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ści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powietrza na podstawie pomiarów psychrometrem. Wymaga pliku z danymi: cis_pary.da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mocnicz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npos.ex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rogram do obliczania położenia Słońca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7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mocnicz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nset.ex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rogram do obliczania wschodu, zachodu Słońca oraz południa lokalne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7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eroz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alib.ex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rogram do kalibracji sun fotometru, wymaga pliku calib.dat, Opis do programu w Readme.t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6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eroz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OT.ex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rogram do obliczania grubo</a:t>
                      </a:r>
                      <a:r>
                        <a:rPr b="1" lang="pl-PL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ś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i optycznej aerozolu po wykalibrowaniu przyrz</a:t>
                      </a:r>
                      <a:r>
                        <a:rPr b="1" lang="pl-PL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ą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u. Wymaga pliku lang.dat ale UWAGA ten plik jest generowany w czasie kalibracji i dla każdego przyrz</a:t>
                      </a:r>
                      <a:r>
                        <a:rPr b="1" lang="pl-PL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ą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u jest inny. Zamieszczony tutaj jest lang.dat jest plikiem  przykładowy!!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71" name=""/>
          <p:cNvSpPr/>
          <p:nvPr/>
        </p:nvSpPr>
        <p:spPr>
          <a:xfrm>
            <a:off x="1440" y="11549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ACC76-80E1-48C1-8441-6DF6F8D8F0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Arial"/>
              </a:rPr>
              <a:t>Nowe techniki pomiarowe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403848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66ff33"/>
                </a:solidFill>
                <a:latin typeface="Arial"/>
              </a:rPr>
              <a:t>Automatyczne stacje meteorologiczne z rejestracją warunków atmosferycznych co 5-15 minut wyposażone w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lektroniczny termometr powietrza i grunt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lektroniczny higrometr, wiatromierz, deszczomierz it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724360" y="3716280"/>
            <a:ext cx="2395800" cy="2171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724360" y="1125360"/>
            <a:ext cx="2376720" cy="23767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68360" y="765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00"/>
                </a:solidFill>
                <a:latin typeface="Arial"/>
              </a:rPr>
              <a:t>Automatyczne stacje pogod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AW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AVIS 500-1000$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RainWise 700-900 $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eatherHawk 2tyś $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F9750-99C3-4224-8447-A66B20B59E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Arial"/>
              </a:rPr>
              <a:t>Cyfrowy termometr</a:t>
            </a:r>
            <a:r>
              <a:rPr b="0" lang="pl-PL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68360" y="1150920"/>
            <a:ext cx="8101080" cy="57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15F60-866B-491D-98BD-B7EA8039DC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2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16C1D-FAD2-4C34-9B81-7712B10DC1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Arial"/>
              </a:rPr>
              <a:t>Kalibracja automatycznej stacji pogody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84360" y="896760"/>
            <a:ext cx="7451640" cy="59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4C9AC-CBAE-45EC-B3ED-351A01A0C7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72280" cy="710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1D937-8EE4-44F4-AC95-DC3CDD95E6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885080" cy="690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B976A-1CC7-4F8C-90DD-B9DB6E1C7D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93760"/>
            <a:ext cx="9144000" cy="656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E72F9-2435-4C60-891C-08240B83BF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3e3ff"/>
                </a:solidFill>
                <a:latin typeface="Arial"/>
              </a:rPr>
              <a:t>Pomiary atmosferyczne w GLOBE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1) Temperatura powietr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emperatura max i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2) Obserwacje stopnia zachmurzenia i rodzajów chm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3) Wilgotność powietr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4) Ciśnienie atmosferycz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5) Op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ysokość opa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H opa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6 ) Pokrywa śnież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ałkowita pokrywa śnież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Śnieg now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Ekwiwalenty wodne śnieg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062C0-7577-4F8B-8824-ED48C383DB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Arial"/>
              </a:rPr>
              <a:t>Określenie miejsca dla obserwacji atmosferycznych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ożliwie najbardziej otwarty obszar blisko szkoł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Dogodny do obserwacji chmur na niebie (możliwe szeroko widoczny horyzo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dległość od przeszkód terenowych powinna być większa niż 4-krotna ich wysokoś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3068640"/>
            <a:ext cx="82296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Arial"/>
              </a:rPr>
              <a:t>Kiedy wykonujemy pomiary atmosferyczn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3645000"/>
            <a:ext cx="7632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3e3ff"/>
                </a:solidFill>
                <a:latin typeface="Arial"/>
              </a:rPr>
              <a:t>Większość pomiarów wykonujemy w czasie południa lokalnego około godziny 12:30 czasu letniego oraz 11:30 czasu zimowe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3e3ff"/>
                </a:solidFill>
                <a:latin typeface="Arial"/>
              </a:rPr>
              <a:t>Pomiary raportowane są w czasie uniwersalnym UTC (-2h latem, -1h zima w stosunku do czasu urzędoweg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83B0D-2A03-4A8F-9081-85C4F8063C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0T00:02:42Z</dcterms:created>
  <dc:creator>meteo</dc:creator>
  <dc:description/>
  <dc:language>en-US</dc:language>
  <cp:lastModifiedBy>Krzysztof Markowicz</cp:lastModifiedBy>
  <dcterms:modified xsi:type="dcterms:W3CDTF">2009-05-15T19:13:45Z</dcterms:modified>
  <cp:revision>329</cp:revision>
  <dc:subject/>
  <dc:title>Absorbing Mediterranean Aerosols Lead to a Large Reduction in Solar Radiation at the Surface </dc:title>
</cp:coreProperties>
</file>